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055-4A42-4645-AE58-D89FB288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11B-0671-497C-9925-1864C65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4FE-7D1F-430A-888E-0BF0BF3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76A-6E17-409F-AB56-B97357DF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ED8-4B81-4C64-85BA-CF1C1BA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045-2C2A-4583-AC62-626950A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1B2-0705-45B9-B999-E7FD3A59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A22-FC3D-4E44-8311-0CED1046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CBF-BE91-49B3-8799-6E8130A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203-74C2-46F7-9BCB-F139BA9C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510-5C6C-4E23-B18D-1E63AB4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D28-7CDF-41FA-B79A-43CE5CF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328-5762-46F5-B8DD-93B99E16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wmf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6880" cy="190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2514600"/>
            <a:ext cx="2743200" cy="183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00400" y="4954680"/>
            <a:ext cx="2666880" cy="190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200400" y="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603840" y="5149800"/>
            <a:ext cx="2540160" cy="170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51560" y="2514600"/>
            <a:ext cx="2692440" cy="179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478240" cy="185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89680" y="0"/>
            <a:ext cx="2254320" cy="199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2743200" cy="183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124080" y="2514600"/>
            <a:ext cx="2895840" cy="185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477120" y="5029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124080" y="5008680"/>
            <a:ext cx="2776680" cy="184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0" y="5005440"/>
            <a:ext cx="27432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812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2-20T18:03:32Z</dcterms:modified>
  <cp:revision>24</cp:revision>
  <dc:subject/>
  <dc:title>Slide 1</dc:title>
</cp:coreProperties>
</file>